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5.xml.rels" ContentType="application/vnd.openxmlformats-package.relationships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6.png" ContentType="image/png"/>
  <Override PartName="/ppt/media/image42.jpeg" ContentType="image/jpeg"/>
  <Override PartName="/ppt/media/image38.jpeg" ContentType="image/jpeg"/>
  <Override PartName="/ppt/media/image7.jpeg" ContentType="image/jpeg"/>
  <Override PartName="/ppt/media/image4.png" ContentType="image/png"/>
  <Override PartName="/ppt/media/image40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2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62.jpeg" ContentType="image/jpeg"/>
  <Override PartName="/ppt/media/image50.jpeg" ContentType="image/jpeg"/>
  <Override PartName="/ppt/media/image60.png" ContentType="image/png"/>
  <Override PartName="/ppt/media/image26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61.jpeg" ContentType="image/jpeg"/>
  <Override PartName="/ppt/media/image17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8.png" ContentType="image/png"/>
  <Override PartName="/ppt/media/image43.jpeg" ContentType="image/jpeg"/>
  <Override PartName="/ppt/media/image8.jpeg" ContentType="image/jpeg"/>
  <Override PartName="/ppt/media/image5.png" ContentType="image/png"/>
  <Override PartName="/ppt/media/image39.jpeg" ContentType="image/jpeg"/>
  <Override PartName="/ppt/media/image27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44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1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63.png" ContentType="image/png"/>
  <Override PartName="/ppt/media/image57.jpeg" ContentType="image/jpeg"/>
  <Override PartName="/ppt/media/image46.jpeg" ContentType="image/jpeg"/>
  <Override PartName="/ppt/media/image5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1AAC-73D7-4D05-9F4D-3A83D6307E9E}" type="slidenum">
              <a:rPr b="0" lang="sr-Latn-R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Surgical treat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0D8D-A99A-4547-A748-04279B2F8603}" type="slidenum">
              <a:rPr b="0" lang="sr-Latn-R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988D-B9FB-4365-9204-19B3875B0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48A4-EFFB-4F23-9627-68640206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DA21-BF54-4594-979A-9077B772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BC85-BBD9-42AA-BBF7-BA4708A8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2239-6292-4051-9BDD-49E33ECB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A39A-C449-4872-B090-5A933F94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AAB5-FF14-41E9-B351-D4A30943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3A5F-F0AE-4F18-A959-5C0CC1DA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7246-A92E-48E8-852F-74E9F4BF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E30F-DBC1-4F8F-95EF-382FAF54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48BA-3EB3-41F4-9EF9-60A6B40B9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7531-022E-4A78-B7FD-E1246458A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1212-42CE-4595-B774-2FE478A1BC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57160" y="128556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genital heart dis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Dr Violeta Irić</a:t>
            </a:r>
            <a:r>
              <a:rPr b="1" i="1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Ćupi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TEGRATED STUDIES OF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k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nit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Konverzij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106164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hemodynamic disorder in CHD and pathogen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eans that in the arterial circulation despite the existance of a defect, there will be exclusively oxygenated blood and cyanosis will not exist, so it means that CHD will be acyanoge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the venous system will now also contain part of the oxygenated blood that has passed into the venous system due to the existing de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7640" y="106164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hemodynamic disorder in CHD and pathogen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, now the entire amount of blood from the venous system (both reduced or nonoxygenated and oxygenated blood) will go into the pulmonary circulation in order to be oxyge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defect is larger, the amount of blood will be larger and the pulmonary circulation will have a greater or huge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hemodynamic disorder in CHD and pathogen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is way, the total amount of venous blood will burden the venous and pulmonary circulation, so the pressure in the venous and pulmonary circulation will begin to increa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some moment, the pressure in the pulmonary and venous circulation will increase so much that it will exceed the pressure in the arterial syst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the blood flow will start to switch from venous to arterial system, that is, shunt reversion of bloof flow will occ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106164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hemodynamic disorder in CHD and pathogen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 shunt reversion occurs, there will be both oxygenated and non-oxygenated blood in the systemic arterial circulation, so cyanosis will occur and the CHD will become cyanogen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xception is extremely large defects of the interventricular septum when the right and left ventricle practically functions as one or a common ventricle, so the defect will immediately be cyanogenyc primari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061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hemodynamic disorder in CHD and pathogen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rimary cyanogenic CHD with RL shunt, these are extremely large defects or anomalies of large blood vessels when the blood vessels receive blood simultaneously from the arterial and venous systems 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“riding aorta“ i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etralogy of Fallot, Transposition of large blood vessels , Common truncus arteriosus, Common ventricle...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548920" cy="21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tralogy of Fallo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nos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.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lis, VS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14200" y="2287080"/>
            <a:ext cx="8715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on-simultaneus exist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nosis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pulmon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xstroposition of the aorta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ding aor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 th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rophy of the right ventr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6441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tetra"/>
          <p:cNvPicPr/>
          <p:nvPr/>
        </p:nvPicPr>
        <p:blipFill>
          <a:blip r:embed="rId1"/>
          <a:stretch/>
        </p:blipFill>
        <p:spPr>
          <a:xfrm>
            <a:off x="468360" y="0"/>
            <a:ext cx="727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trilo"/>
          <p:cNvPicPr/>
          <p:nvPr/>
        </p:nvPicPr>
        <p:blipFill>
          <a:blip r:embed="rId1"/>
          <a:stretch/>
        </p:blipFill>
        <p:spPr>
          <a:xfrm>
            <a:off x="0" y="0"/>
            <a:ext cx="817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57160" y="128556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manifestation of all cyanogenic CHD</a:t>
            </a: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nding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ralogy of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lot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2428920"/>
            <a:ext cx="822960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tro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w growth an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i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urrence of respiratory inf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anosis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 typ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xemic cr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 are playing in crouching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manifestation and physical examination- </a:t>
            </a:r>
            <a:br>
              <a:rPr sz="2800"/>
            </a:br>
            <a:r>
              <a:rPr b="0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entral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peripherial cya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C:\Documents and Settings\Korisnik\My Documents\Picture1.jpg"/>
          <p:cNvPicPr/>
          <p:nvPr/>
        </p:nvPicPr>
        <p:blipFill>
          <a:blip r:embed="rId1"/>
          <a:stretch/>
        </p:blipFill>
        <p:spPr>
          <a:xfrm>
            <a:off x="357120" y="2357280"/>
            <a:ext cx="3787920" cy="4214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C:\Documents and Settings\Korisnik\My Documents\Picture2.jpg"/>
          <p:cNvPicPr/>
          <p:nvPr/>
        </p:nvPicPr>
        <p:blipFill>
          <a:blip r:embed="rId2"/>
          <a:stretch/>
        </p:blipFill>
        <p:spPr>
          <a:xfrm>
            <a:off x="4429080" y="2428920"/>
            <a:ext cx="40417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56800" y="1143000"/>
            <a:ext cx="77533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genital heart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eries of disorders of the anatomical structures of the heart and large blood vessels </a:t>
            </a: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ith which a child is bo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63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C:\Documents and Settings\Korisnik\My Documents\800px-ClubbingFingers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42600" y="13568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: </a:t>
            </a: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cul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2642760"/>
            <a:ext cx="8229600" cy="41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olic murmur (pulmonary arte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queness of th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360" y="1980720"/>
            <a:ext cx="5435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a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nsatory polyglobuli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nd very high level of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b, H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 ventricular hypertrophy (RV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heart with distinct RV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”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ged hear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rch of pulmonary artery is mi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cardi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terisation of the heart and angiocardiograph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taneous filling of the aorta and pulmonary arter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Tetralogy of Fallot"/>
          <p:cNvPicPr/>
          <p:nvPr/>
        </p:nvPicPr>
        <p:blipFill>
          <a:blip r:embed="rId1"/>
          <a:stretch/>
        </p:blipFill>
        <p:spPr>
          <a:xfrm>
            <a:off x="5219640" y="1643040"/>
            <a:ext cx="39243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85520" y="1071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rgical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207180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al treat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suggested to take crouching position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ranol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evention of endocardit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ygen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 surgical corr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lat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 of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itching the aorta to the left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liative interven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stomosis of the aorta and pulmonary artery at the begining and after that intervention, total surgical corr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evere defects with severe anoxic cri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57160" y="11426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course and prog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surgery children die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infection and CHD complicatio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mbo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in absces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terial endocardit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-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-15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ars after the intervention gives insight into normal physical activities, children grow up normal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further period, rhythm disturbances are possible, but the long-term prognosis is not entirely cer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ve mortality 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-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2600" y="12139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ilogy of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l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nosis of pulmonary artery (mouth) associated wi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ventricle is also enlarged (and 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pertrophy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1320" y="12139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manifes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similar as in Tetralo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if the defect is more severe, it is more similar to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til the appearance of anoxemic cri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s of heart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1050840"/>
            <a:ext cx="87012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gnostic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28240" y="2571480"/>
            <a:ext cx="86295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cardiography and cateterization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ricular-pulmonary gradient is specif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pressure in RV and low in a.pulmonal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85520" y="12855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course and prog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857320"/>
            <a:ext cx="8229600" cy="39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surgery children die of infection and CHD complications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 heart failure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surgical treatment the disease progres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ight heart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 surgical correction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definitive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ther primarily cyanogenic CH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position of large blood vess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truncus arteriosu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very large VSD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ventricle (the existence of one cham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64000" y="764640"/>
            <a:ext cx="2592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Diagram 3" descr=""/>
          <p:cNvPicPr/>
          <p:nvPr/>
        </p:nvPicPr>
        <p:blipFill>
          <a:blip r:embed="rId1"/>
          <a:stretch/>
        </p:blipFill>
        <p:spPr>
          <a:xfrm>
            <a:off x="-12600" y="1695600"/>
            <a:ext cx="916308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ary cyanogenic CH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enmenger s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2642760"/>
            <a:ext cx="8229600" cy="41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enmenger s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97.)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s the occurrence of the transition or re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R shunt to RL shunt in CH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ctus arteriosus persist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CHD with LR sh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manifestation: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ymptoms and signs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senmenger s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an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ubbing fingers (digiti hyppocrati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rt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ac arrhyth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GNS OF CYANOGENIC CHD IN A PATIENT WHO HAD A NON-CYANOGENIC CH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e the most important signs and most dramatic warning for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tients and do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eisen"/>
          <p:cNvPicPr/>
          <p:nvPr/>
        </p:nvPicPr>
        <p:blipFill>
          <a:blip r:embed="rId1"/>
          <a:stretch/>
        </p:blipFill>
        <p:spPr>
          <a:xfrm>
            <a:off x="250920" y="333360"/>
            <a:ext cx="77770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84153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graphy in Eisenmenger s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eisen rtg"/>
          <p:cNvPicPr/>
          <p:nvPr/>
        </p:nvPicPr>
        <p:blipFill>
          <a:blip r:embed="rId1"/>
          <a:stretch/>
        </p:blipFill>
        <p:spPr>
          <a:xfrm>
            <a:off x="0" y="1928880"/>
            <a:ext cx="86043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106164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significance of shunt reversal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senmenger sy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D with LR shunt are successfully treated with surgical correction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shunt reversal occurs, the defect and CHD is no longer oper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nly possibility of treating the CHD after shunt reversal (Eisenmenger sy) is HEART AND LUNG TRANSPLA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ptomatic treatment of CHD with RL shun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of heart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ion of endocard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of bronchopulmonary inf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ygen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apheresis or venipun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n-cyanogenic CHD or CHD with LR sh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P (P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2560" y="106164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manife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ptomatic forms of ASD and 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iratory inf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til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senmenger s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14240" y="123840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asd"/>
          <p:cNvPicPr/>
          <p:nvPr/>
        </p:nvPicPr>
        <p:blipFill>
          <a:blip r:embed="rId1"/>
          <a:stretch/>
        </p:blipFill>
        <p:spPr>
          <a:xfrm>
            <a:off x="0" y="1928880"/>
            <a:ext cx="4140360" cy="4114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ASD eho"/>
          <p:cNvPicPr/>
          <p:nvPr/>
        </p:nvPicPr>
        <p:blipFill>
          <a:blip r:embed="rId2"/>
          <a:stretch/>
        </p:blipFill>
        <p:spPr>
          <a:xfrm>
            <a:off x="4140360" y="2057400"/>
            <a:ext cx="4572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images"/>
          <p:cNvPicPr/>
          <p:nvPr/>
        </p:nvPicPr>
        <p:blipFill>
          <a:blip r:embed="rId1"/>
          <a:stretch/>
        </p:blipFill>
        <p:spPr>
          <a:xfrm>
            <a:off x="1042920" y="0"/>
            <a:ext cx="6985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11426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dem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42560" y="1989000"/>
            <a:ext cx="4141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often than all th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have growth trends in the whol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erbia it 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.4-0.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st of them are with the LR sh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60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urodjene srcane mane"/>
          <p:cNvPicPr/>
          <p:nvPr/>
        </p:nvPicPr>
        <p:blipFill>
          <a:blip r:embed="rId1"/>
          <a:stretch/>
        </p:blipFill>
        <p:spPr>
          <a:xfrm>
            <a:off x="4284720" y="1844640"/>
            <a:ext cx="45352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images 2"/>
          <p:cNvPicPr/>
          <p:nvPr/>
        </p:nvPicPr>
        <p:blipFill>
          <a:blip r:embed="rId1"/>
          <a:stretch/>
        </p:blipFill>
        <p:spPr>
          <a:xfrm>
            <a:off x="565200" y="0"/>
            <a:ext cx="810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42600" y="12855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 and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scul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2571480"/>
            <a:ext cx="82296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culta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n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ne ov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rmur ov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plete right bundle branch block (RBB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arth of normal size with enlarged R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heteriz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lmonary blood flow is increased several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28240" y="-360"/>
            <a:ext cx="7543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mc462664"/>
          <p:cNvPicPr/>
          <p:nvPr/>
        </p:nvPicPr>
        <p:blipFill>
          <a:blip r:embed="rId1"/>
          <a:stretch/>
        </p:blipFill>
        <p:spPr>
          <a:xfrm>
            <a:off x="539640" y="0"/>
            <a:ext cx="817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images 3"/>
          <p:cNvPicPr/>
          <p:nvPr/>
        </p:nvPicPr>
        <p:blipFill>
          <a:blip r:embed="rId1"/>
          <a:stretch/>
        </p:blipFill>
        <p:spPr>
          <a:xfrm>
            <a:off x="2286000" y="115920"/>
            <a:ext cx="603108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28240" y="1413000"/>
            <a:ext cx="75438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ASD-CXR"/>
          <p:cNvPicPr/>
          <p:nvPr/>
        </p:nvPicPr>
        <p:blipFill>
          <a:blip r:embed="rId1"/>
          <a:stretch/>
        </p:blipFill>
        <p:spPr>
          <a:xfrm>
            <a:off x="-190440" y="-1200240"/>
            <a:ext cx="9524880" cy="925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ASD"/>
          <p:cNvPicPr/>
          <p:nvPr/>
        </p:nvPicPr>
        <p:blipFill>
          <a:blip r:embed="rId1"/>
          <a:stretch/>
        </p:blipFill>
        <p:spPr>
          <a:xfrm>
            <a:off x="0" y="0"/>
            <a:ext cx="817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ASD"/>
          <p:cNvPicPr/>
          <p:nvPr/>
        </p:nvPicPr>
        <p:blipFill>
          <a:blip r:embed="rId1"/>
          <a:stretch/>
        </p:blipFill>
        <p:spPr>
          <a:xfrm>
            <a:off x="0" y="0"/>
            <a:ext cx="817236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Line 14"/>
          <p:cNvSpPr/>
          <p:nvPr/>
        </p:nvSpPr>
        <p:spPr>
          <a:xfrm flipV="1">
            <a:off x="1258920" y="2420640"/>
            <a:ext cx="1512720" cy="1152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5"/>
          <p:cNvPicPr/>
          <p:nvPr/>
        </p:nvPicPr>
        <p:blipFill>
          <a:blip r:embed="rId1"/>
          <a:stretch/>
        </p:blipFill>
        <p:spPr>
          <a:xfrm>
            <a:off x="395280" y="260280"/>
            <a:ext cx="3708360" cy="6408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ASD3L"/>
          <p:cNvPicPr/>
          <p:nvPr/>
        </p:nvPicPr>
        <p:blipFill>
          <a:blip r:embed="rId2"/>
          <a:stretch/>
        </p:blipFill>
        <p:spPr>
          <a:xfrm>
            <a:off x="4716360" y="189000"/>
            <a:ext cx="4249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images 11"/>
          <p:cNvPicPr/>
          <p:nvPr/>
        </p:nvPicPr>
        <p:blipFill>
          <a:blip r:embed="rId1"/>
          <a:stretch/>
        </p:blipFill>
        <p:spPr>
          <a:xfrm>
            <a:off x="4788000" y="0"/>
            <a:ext cx="4289400" cy="6858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Primum-ASD"/>
          <p:cNvPicPr/>
          <p:nvPr/>
        </p:nvPicPr>
        <p:blipFill>
          <a:blip r:embed="rId2"/>
          <a:stretch/>
        </p:blipFill>
        <p:spPr>
          <a:xfrm>
            <a:off x="255600" y="0"/>
            <a:ext cx="378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57160" y="128556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course a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28760" y="2642760"/>
            <a:ext cx="8229600" cy="17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f them are incompatible with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f them are compat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disrupt the childʼs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defects are well tolerated until 2nd or 3rd decade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f them are very small defects, so they do not have any hemodynamic signific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Figure 5"/>
          <p:cNvPicPr/>
          <p:nvPr/>
        </p:nvPicPr>
        <p:blipFill>
          <a:blip r:embed="rId1"/>
          <a:stretch/>
        </p:blipFill>
        <p:spPr>
          <a:xfrm>
            <a:off x="0" y="0"/>
            <a:ext cx="874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Primum-ASD-L-R-Shunt"/>
          <p:cNvPicPr/>
          <p:nvPr/>
        </p:nvPicPr>
        <p:blipFill>
          <a:blip r:embed="rId1"/>
          <a:stretch/>
        </p:blipFill>
        <p:spPr>
          <a:xfrm>
            <a:off x="539640" y="189000"/>
            <a:ext cx="766764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images 7"/>
          <p:cNvPicPr/>
          <p:nvPr/>
        </p:nvPicPr>
        <p:blipFill>
          <a:blip r:embed="rId1"/>
          <a:stretch/>
        </p:blipFill>
        <p:spPr>
          <a:xfrm>
            <a:off x="250920" y="260280"/>
            <a:ext cx="82436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85520" y="1125360"/>
            <a:ext cx="74674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700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defect is hemodynamically significant,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nly adequate treatment is surg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gically closing the defect before starting school or earlier (if pulmonary hypertension develops, intervention is no longer indica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tga_intact_vs_postop"/>
          <p:cNvPicPr/>
          <p:nvPr/>
        </p:nvPicPr>
        <p:blipFill>
          <a:blip r:embed="rId1"/>
          <a:stretch/>
        </p:blipFill>
        <p:spPr>
          <a:xfrm>
            <a:off x="5796000" y="3378240"/>
            <a:ext cx="237636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91440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6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asd-closure-www-drsvenkatesan-com"/>
          <p:cNvPicPr/>
          <p:nvPr/>
        </p:nvPicPr>
        <p:blipFill>
          <a:blip r:embed="rId1"/>
          <a:stretch/>
        </p:blipFill>
        <p:spPr>
          <a:xfrm>
            <a:off x="285840" y="1125360"/>
            <a:ext cx="817236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s and approach of surgical and non-surgical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asd-closure-surgery1"/>
          <p:cNvPicPr/>
          <p:nvPr/>
        </p:nvPicPr>
        <p:blipFill>
          <a:blip r:embed="rId1"/>
          <a:stretch/>
        </p:blipFill>
        <p:spPr>
          <a:xfrm>
            <a:off x="3000240" y="2133720"/>
            <a:ext cx="2100240" cy="37162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minimalinvasiv_vorhof"/>
          <p:cNvPicPr/>
          <p:nvPr/>
        </p:nvPicPr>
        <p:blipFill>
          <a:blip r:embed="rId2"/>
          <a:stretch/>
        </p:blipFill>
        <p:spPr>
          <a:xfrm>
            <a:off x="5572080" y="2884320"/>
            <a:ext cx="3032280" cy="39736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img_cardiac_open"/>
          <p:cNvPicPr/>
          <p:nvPr/>
        </p:nvPicPr>
        <p:blipFill>
          <a:blip r:embed="rId3"/>
          <a:stretch/>
        </p:blipFill>
        <p:spPr>
          <a:xfrm>
            <a:off x="468360" y="1592280"/>
            <a:ext cx="2143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surgical procedure</a:t>
            </a:r>
            <a:br>
              <a:rPr sz="2800"/>
            </a:b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eptal occluders (without opening the chest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images 8"/>
          <p:cNvPicPr/>
          <p:nvPr/>
        </p:nvPicPr>
        <p:blipFill>
          <a:blip r:embed="rId1"/>
          <a:stretch/>
        </p:blipFill>
        <p:spPr>
          <a:xfrm>
            <a:off x="3995640" y="2428920"/>
            <a:ext cx="4321440" cy="3786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Nitinol-ASD-device-closure"/>
          <p:cNvPicPr/>
          <p:nvPr/>
        </p:nvPicPr>
        <p:blipFill>
          <a:blip r:embed="rId2"/>
          <a:stretch/>
        </p:blipFill>
        <p:spPr>
          <a:xfrm>
            <a:off x="395280" y="2276640"/>
            <a:ext cx="3529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surgical procedure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al occluders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helex"/>
          <p:cNvPicPr/>
          <p:nvPr/>
        </p:nvPicPr>
        <p:blipFill>
          <a:blip r:embed="rId1"/>
          <a:stretch/>
        </p:blipFill>
        <p:spPr>
          <a:xfrm>
            <a:off x="900000" y="2421000"/>
            <a:ext cx="65725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images 1"/>
          <p:cNvPicPr/>
          <p:nvPr/>
        </p:nvPicPr>
        <p:blipFill>
          <a:blip r:embed="rId1"/>
          <a:stretch/>
        </p:blipFill>
        <p:spPr>
          <a:xfrm>
            <a:off x="324000" y="0"/>
            <a:ext cx="77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images 9"/>
          <p:cNvPicPr/>
          <p:nvPr/>
        </p:nvPicPr>
        <p:blipFill>
          <a:blip r:embed="rId1"/>
          <a:stretch/>
        </p:blipFill>
        <p:spPr>
          <a:xfrm>
            <a:off x="0" y="189000"/>
            <a:ext cx="85327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ification of congenital heart dis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fects with cyano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fects with RL shu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flow from venous to the arterial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------------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fects with</a:t>
            </a: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u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cyano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fects with LR shu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lood flow from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e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o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ystem)-50-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en-US" sz="2400" spc="-1" strike="noStrike">
                <a:solidFill>
                  <a:srgbClr val="72bfc5"/>
                </a:solidFill>
                <a:latin typeface="Times New Roman"/>
                <a:ea typeface="Times New Roman"/>
              </a:rPr>
              <a:t>Defects without </a:t>
            </a:r>
            <a:r>
              <a:rPr b="0" lang="sr-Latn-RS" sz="2400" spc="-1" strike="noStrike">
                <a:solidFill>
                  <a:srgbClr val="72bfc5"/>
                </a:solidFill>
                <a:latin typeface="Times New Roman"/>
                <a:ea typeface="Times New Roman"/>
              </a:rPr>
              <a:t>shunt</a:t>
            </a:r>
            <a:r>
              <a:rPr b="0" lang="en-US" sz="2400" spc="-1" strike="noStrike">
                <a:solidFill>
                  <a:srgbClr val="72bfc5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15-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x def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ventr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 triatriat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tomic anomaly of coronary artery vessels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0920" y="873000"/>
            <a:ext cx="8678880" cy="9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and therapeutic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ASD_Verschluss"/>
          <p:cNvPicPr/>
          <p:nvPr/>
        </p:nvPicPr>
        <p:blipFill>
          <a:blip r:embed="rId1"/>
          <a:stretch/>
        </p:blipFill>
        <p:spPr>
          <a:xfrm>
            <a:off x="0" y="1714680"/>
            <a:ext cx="817236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images 4"/>
          <p:cNvPicPr/>
          <p:nvPr/>
        </p:nvPicPr>
        <p:blipFill>
          <a:blip r:embed="rId1"/>
          <a:stretch/>
        </p:blipFill>
        <p:spPr>
          <a:xfrm>
            <a:off x="0" y="0"/>
            <a:ext cx="831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240" y="260280"/>
            <a:ext cx="75438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bas"/>
          <p:cNvPicPr/>
          <p:nvPr/>
        </p:nvPicPr>
        <p:blipFill>
          <a:blip r:embed="rId1"/>
          <a:stretch/>
        </p:blipFill>
        <p:spPr>
          <a:xfrm>
            <a:off x="2576520" y="404640"/>
            <a:ext cx="56674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images 10"/>
          <p:cNvPicPr/>
          <p:nvPr/>
        </p:nvPicPr>
        <p:blipFill>
          <a:blip r:embed="rId1"/>
          <a:stretch/>
        </p:blipFill>
        <p:spPr>
          <a:xfrm>
            <a:off x="0" y="0"/>
            <a:ext cx="831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9680" y="11426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gical correction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img_cardiac_open"/>
          <p:cNvPicPr/>
          <p:nvPr/>
        </p:nvPicPr>
        <p:blipFill>
          <a:blip r:embed="rId1"/>
          <a:stretch/>
        </p:blipFill>
        <p:spPr>
          <a:xfrm>
            <a:off x="3772080" y="2249640"/>
            <a:ext cx="44002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4" descr="sunday-or-21"/>
          <p:cNvPicPr/>
          <p:nvPr/>
        </p:nvPicPr>
        <p:blipFill>
          <a:blip r:embed="rId1"/>
          <a:stretch/>
        </p:blipFill>
        <p:spPr>
          <a:xfrm>
            <a:off x="-987480" y="-739800"/>
            <a:ext cx="11118960" cy="83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op na srcu"/>
          <p:cNvPicPr/>
          <p:nvPr/>
        </p:nvPicPr>
        <p:blipFill>
          <a:blip r:embed="rId1"/>
          <a:stretch/>
        </p:blipFill>
        <p:spPr>
          <a:xfrm>
            <a:off x="0" y="0"/>
            <a:ext cx="831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28240" y="1628280"/>
            <a:ext cx="75438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" descr="2137_fig_4_med"/>
          <p:cNvPicPr/>
          <p:nvPr/>
        </p:nvPicPr>
        <p:blipFill>
          <a:blip r:embed="rId1"/>
          <a:stretch/>
        </p:blipFill>
        <p:spPr>
          <a:xfrm>
            <a:off x="250920" y="0"/>
            <a:ext cx="8137440" cy="66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Bypass-Surgery"/>
          <p:cNvPicPr/>
          <p:nvPr/>
        </p:nvPicPr>
        <p:blipFill>
          <a:blip r:embed="rId1"/>
          <a:stretch/>
        </p:blipFill>
        <p:spPr>
          <a:xfrm>
            <a:off x="0" y="0"/>
            <a:ext cx="8244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images 6"/>
          <p:cNvPicPr/>
          <p:nvPr/>
        </p:nvPicPr>
        <p:blipFill>
          <a:blip r:embed="rId1"/>
          <a:stretch/>
        </p:blipFill>
        <p:spPr>
          <a:xfrm>
            <a:off x="0" y="0"/>
            <a:ext cx="838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856800"/>
            <a:ext cx="823104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cation of congenital heart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Diagram 3" descr=""/>
          <p:cNvPicPr/>
          <p:nvPr/>
        </p:nvPicPr>
        <p:blipFill>
          <a:blip r:embed="rId1"/>
          <a:stretch/>
        </p:blipFill>
        <p:spPr>
          <a:xfrm>
            <a:off x="176040" y="1700280"/>
            <a:ext cx="868212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" descr="closure-fig3"/>
          <p:cNvPicPr/>
          <p:nvPr/>
        </p:nvPicPr>
        <p:blipFill>
          <a:blip r:embed="rId1"/>
          <a:stretch/>
        </p:blipFill>
        <p:spPr>
          <a:xfrm>
            <a:off x="42840" y="9360"/>
            <a:ext cx="9058320" cy="683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28240" y="-360"/>
            <a:ext cx="7543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4" descr="mitral-fig7"/>
          <p:cNvPicPr/>
          <p:nvPr/>
        </p:nvPicPr>
        <p:blipFill>
          <a:blip r:embed="rId1"/>
          <a:stretch/>
        </p:blipFill>
        <p:spPr>
          <a:xfrm>
            <a:off x="0" y="0"/>
            <a:ext cx="838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4" descr="gunner"/>
          <p:cNvPicPr/>
          <p:nvPr/>
        </p:nvPicPr>
        <p:blipFill>
          <a:blip r:embed="rId1"/>
          <a:stretch/>
        </p:blipFill>
        <p:spPr>
          <a:xfrm>
            <a:off x="-3048120" y="-2286000"/>
            <a:ext cx="15240240" cy="1143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4" descr="live_photo2249470"/>
          <p:cNvPicPr/>
          <p:nvPr/>
        </p:nvPicPr>
        <p:blipFill>
          <a:blip r:embed="rId1"/>
          <a:stretch/>
        </p:blipFill>
        <p:spPr>
          <a:xfrm>
            <a:off x="0" y="115920"/>
            <a:ext cx="3851280" cy="65530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shalini"/>
          <p:cNvPicPr/>
          <p:nvPr/>
        </p:nvPicPr>
        <p:blipFill>
          <a:blip r:embed="rId2"/>
          <a:stretch/>
        </p:blipFill>
        <p:spPr>
          <a:xfrm>
            <a:off x="4284720" y="260280"/>
            <a:ext cx="4248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4" descr="hs"/>
          <p:cNvPicPr/>
          <p:nvPr/>
        </p:nvPicPr>
        <p:blipFill>
          <a:blip r:embed="rId1"/>
          <a:stretch/>
        </p:blipFill>
        <p:spPr>
          <a:xfrm>
            <a:off x="0" y="0"/>
            <a:ext cx="838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4" descr="woman-heart-surgery-scar"/>
          <p:cNvPicPr/>
          <p:nvPr/>
        </p:nvPicPr>
        <p:blipFill>
          <a:blip r:embed="rId1"/>
          <a:stretch/>
        </p:blipFill>
        <p:spPr>
          <a:xfrm>
            <a:off x="1908000" y="0"/>
            <a:ext cx="633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en_07f3b"/>
          <p:cNvPicPr/>
          <p:nvPr/>
        </p:nvPicPr>
        <p:blipFill>
          <a:blip r:embed="rId1"/>
          <a:stretch/>
        </p:blipFill>
        <p:spPr>
          <a:xfrm>
            <a:off x="755640" y="1125360"/>
            <a:ext cx="777708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asd-device-closure-4"/>
          <p:cNvPicPr/>
          <p:nvPr/>
        </p:nvPicPr>
        <p:blipFill>
          <a:blip r:embed="rId1"/>
          <a:stretch/>
        </p:blipFill>
        <p:spPr>
          <a:xfrm>
            <a:off x="250920" y="115920"/>
            <a:ext cx="77058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4" descr="RPY_SUPERMAN_ALEX_BRIGGS_JP03"/>
          <p:cNvPicPr/>
          <p:nvPr/>
        </p:nvPicPr>
        <p:blipFill>
          <a:blip r:embed="rId1"/>
          <a:stretch/>
        </p:blipFill>
        <p:spPr>
          <a:xfrm>
            <a:off x="1619280" y="115920"/>
            <a:ext cx="568944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14240" y="11426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ect of membranous or muscular part of interventricular sep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the most common CHD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-60%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closed spontaneusly during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785520"/>
            <a:ext cx="746748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ongenital heart disease with cya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Diagram 3" descr=""/>
          <p:cNvPicPr/>
          <p:nvPr/>
        </p:nvPicPr>
        <p:blipFill>
          <a:blip r:embed="rId1"/>
          <a:stretch/>
        </p:blipFill>
        <p:spPr>
          <a:xfrm>
            <a:off x="212760" y="1987560"/>
            <a:ext cx="864540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42600" y="12855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4" descr="vsd"/>
          <p:cNvPicPr/>
          <p:nvPr/>
        </p:nvPicPr>
        <p:blipFill>
          <a:blip r:embed="rId1"/>
          <a:stretch/>
        </p:blipFill>
        <p:spPr>
          <a:xfrm>
            <a:off x="0" y="1981080"/>
            <a:ext cx="4140360" cy="41148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vsd memb"/>
          <p:cNvPicPr/>
          <p:nvPr/>
        </p:nvPicPr>
        <p:blipFill>
          <a:blip r:embed="rId2"/>
          <a:stretch/>
        </p:blipFill>
        <p:spPr>
          <a:xfrm>
            <a:off x="4191120" y="1700280"/>
            <a:ext cx="472428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85840" y="1142640"/>
            <a:ext cx="848664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diagnostic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3400" y="1989000"/>
            <a:ext cx="43434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uscul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arse systolic murmur in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ICA, propagation in all dire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rophy of left and right ventr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adiography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nlarged both ventr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chocardi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atheteriz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atheter from the right ventricle enters to the left ventricle and the a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1028" descr=""/>
          <p:cNvPicPr/>
          <p:nvPr/>
        </p:nvPicPr>
        <p:blipFill>
          <a:blip r:embed="rId1"/>
          <a:stretch/>
        </p:blipFill>
        <p:spPr>
          <a:xfrm>
            <a:off x="4714920" y="2428920"/>
            <a:ext cx="3889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42600" y="1341360"/>
            <a:ext cx="68086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course and prognosi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def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slightly increased pulmonary blood flow) stays asymptomatic during whole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def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art fail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r the development of pulmonary hypertension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ap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ly interven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 of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uctus arteriosus persist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 muscular vessel between the descending aorta and the pulmonary artery which is needed in fetal life and in the postnatal period it closes normally for 15 min to 3 months of life (at first functionally, than anatomic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enough vasoconstrictors and mus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s failure to close results in CHD with LR shunt (temporary pulmonary hyperten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4" descr="ductus"/>
          <p:cNvPicPr/>
          <p:nvPr/>
        </p:nvPicPr>
        <p:blipFill>
          <a:blip r:embed="rId1"/>
          <a:stretch/>
        </p:blipFill>
        <p:spPr>
          <a:xfrm>
            <a:off x="684360" y="549360"/>
            <a:ext cx="6624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2928600"/>
            <a:ext cx="8229600" cy="38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LV hypertro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adiography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larged LV, prominent arch of the pulmonary ar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atheteris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rast flow from aorta to the pulmonary ar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gical treat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ation or cutting of the ca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operative mort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0.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A SINGLE CHILD WITH THIS DEFECT SHOULD NOT BE UNOPERA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ortic coarc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228240" y="2143080"/>
            <a:ext cx="441468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constriction of the lumen of the aorta in the region of 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.arterios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achment or in any other place of the a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circulation in the distal part of the aorta is maintained by collateral blood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koarkt"/>
          <p:cNvPicPr/>
          <p:nvPr/>
        </p:nvPicPr>
        <p:blipFill>
          <a:blip r:embed="rId1"/>
          <a:stretch/>
        </p:blipFill>
        <p:spPr>
          <a:xfrm>
            <a:off x="4788000" y="1905120"/>
            <a:ext cx="39607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42600" y="12139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2287080"/>
            <a:ext cx="84009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repancy in the development of the upper and lower extremities (hypertrophy of the upper and hypotrophy of the lower exstremi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blood pressure values measured at the upper exstremities and low blood pressure values measured at the lower exstrem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culta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olic murmur over the aorta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nted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tone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 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28240" y="2571840"/>
            <a:ext cx="333540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rmal or hypertrophic 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larged L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stenotic aortic dila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ac cathete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koart CT"/>
          <p:cNvPicPr/>
          <p:nvPr/>
        </p:nvPicPr>
        <p:blipFill>
          <a:blip r:embed="rId1"/>
          <a:stretch/>
        </p:blipFill>
        <p:spPr>
          <a:xfrm>
            <a:off x="3708360" y="1714680"/>
            <a:ext cx="49528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hemodynamic disorder in CHD and pathogen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re is a defect in any part between the arterial and venous system, the blood will always move from the area of higher pressure to the area where the pressure is low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the pressure in the arterial system is higher, blood will move from the arterial system (oxygenated blood) to the venous system (reduced or unoxygenated blo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gical interven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ision of the narrowed part of the aorta with terminoterminal s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surgical intervention-dilatation with stenting of the narrowed part of the a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ypical auscultatory finding in CH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214200" y="2287080"/>
            <a:ext cx="87868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olic nurmur over a. pulmon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r>
              <a:rPr b="0" lang="sr-Latn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F</a:t>
            </a:r>
            <a:r>
              <a:rPr b="0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Т</a:t>
            </a:r>
            <a:r>
              <a:rPr b="0" lang="sr-Latn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F</a:t>
            </a:r>
            <a:r>
              <a:rPr b="0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А</a:t>
            </a:r>
            <a:r>
              <a:rPr b="0" lang="sr-Latn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olic murmur (V ICA) propagating in all directions like overrun wheel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sr-Latn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nel murmur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fall nois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sr-Latn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501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8240" y="92880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st important thing is the end resul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" descr="RPY_SUPERMAN_ALEX_BRIGGS_JP03"/>
          <p:cNvPicPr/>
          <p:nvPr/>
        </p:nvPicPr>
        <p:blipFill>
          <a:blip r:embed="rId1"/>
          <a:stretch/>
        </p:blipFill>
        <p:spPr>
          <a:xfrm>
            <a:off x="3132000" y="1916280"/>
            <a:ext cx="2895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9:29:08Z</dcterms:created>
  <dc:creator>Korisnik</dc:creator>
  <dc:description/>
  <dc:language>en-US</dc:language>
  <cp:lastModifiedBy>Violeta</cp:lastModifiedBy>
  <dcterms:modified xsi:type="dcterms:W3CDTF">2023-08-20T11:53:47Z</dcterms:modified>
  <cp:revision>219</cp:revision>
  <dc:subject/>
  <dc:title>Urodjene srcane mane</dc:title>
</cp:coreProperties>
</file>